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519-B1D7-440A-BEE7-FBB6DEB8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233-2BF9-4C81-8B7D-144621E6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2102-D38D-4FA9-960A-17633A2E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1B4-9421-4622-9885-1D3C37B3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22D3-A386-4B6D-A723-E655C9DB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2170-DC64-4CB1-A627-59CE96D9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C9DD-D376-4F74-86BF-76E67FCD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1681-71DB-4DFB-B215-3A3F0817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FDA3-9714-425A-A432-AB289B94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95480" y="1980720"/>
            <a:ext cx="5561280" cy="953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D655-CD5B-4F9B-B16E-96A1B475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2430-FB3B-459A-83A1-9E6CA7E5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80C-266F-48A9-A975-12F46569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89D5-4E28-4EE9-A77E-BD10DB28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25D4-5C52-4990-9FFB-C727B089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6322-6F17-4083-9BFC-C9DEC567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F17F-B60A-4B3F-A208-EAA4A9D5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577C-0C4A-4E77-9CB9-4A6D6E19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B91-CAEC-44C9-95BA-D68DFE34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24F-199F-4247-A819-4627EAFD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54D-8F49-43DF-A5FB-EEC5C49C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5480" y="1980720"/>
            <a:ext cx="5561280" cy="953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151-9349-4A7F-A795-E50F7F7D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77D-DA73-40A0-AFC4-67F5BD23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A8C-567A-469E-983D-59676177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B70-3A58-4BF4-BCC0-0A574CB1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8469B-EB67-422E-BBD0-2A5D4BAEB0B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A334B-E8B1-49B1-8F57-B03E1E01FA05}" type="slidenum"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Ghost Child by Joseph Nhlapo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P-CAST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itl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thought that the poem was going to be about a child that died of AID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Paraphras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poem is about a child that is suffering from AIDS and wants some one to cure the disease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onnotatio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 shout, shout and scream for my blood to spring once again like rivers in summer.”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IDS attacks peoples bloodstream, so the child wants to have healthy, fresh blood.  Blood that isn't weakened by AID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uld you unwrap this red ribbon from me?”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red ribbon is the symbol for AIDS, just like the pink ribbon is the symbol for breast canc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kosi yami!”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en translated into English, yami means “my”, and nkosi means “chief”, or “king.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8001000" y="4952880"/>
            <a:ext cx="792000" cy="11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dali wami ungishiyekani manje”                                       when translated into English, mdali means “God”, or “creator”, and wami means “my.”  Manje, in English, means “present”, “current”, or “now.”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m I still your child?”  Repetition.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child wants to know if God still loves him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uld you shower me with little raindrops?”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ersonification.  To clense the AIDS from the child, get rid of it, wash it away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Attitu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think that the attitude of the speaker is sad.  The speaker is desperate and hopeful, waiting for a cure of its AID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think that the author's attitude is, and that he feels bad for the child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hift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re is no shift from the beginning of the poem to the end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itl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think that the title is about a child that is suffering from AID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52680" y="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hem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" y="960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think that the theme of the poem is about how AIDS takes affects on kids, and what they go through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9:44:30Z</dcterms:created>
  <dc:creator>User</dc:creator>
  <dc:description/>
  <dc:language>en-US</dc:language>
  <cp:lastModifiedBy>Classroom/Lab</cp:lastModifiedBy>
  <dcterms:modified xsi:type="dcterms:W3CDTF">2010-11-17T19:35:34Z</dcterms:modified>
  <cp:revision>5</cp:revision>
  <dc:subject/>
  <dc:title>Ghost Child by Joseph Nhlapo</dc:title>
</cp:coreProperties>
</file>